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44D-9FA0-486B-9A51-235DE9C2252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9F5-606D-4311-B9D2-135184FB91A6}" type="slidenum">
              <a:rPr b="0" lang="zh-TW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187-CFCB-4197-8B0E-7A17E480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709-BA09-44C1-AD44-546E2FD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C84-2635-439F-B1C1-6FC7BC0D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C37-A022-4B33-AEAB-ECFFEFAA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9CB-7B6A-4AE6-A039-825512B0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BCE2-3FF2-4AAB-A3E8-CE186296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92E-A7F4-4D36-A519-D854DD6D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25AE-DA5A-445A-8362-E927432D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96B-1AF0-4714-8EBD-F19B0E1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E9C-5818-4EB9-98B4-D3E38A93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B6CF-3D67-4B17-ACAB-F523338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47E-DFDB-496B-8241-38FBE79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80C4-1EC3-46B6-B233-563783B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791D-008B-4C28-91AA-A7FEEF3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1EF-7B4B-4FD3-BD3C-A1613567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8E5C-EE32-415E-8DE2-64F8ACDF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3988-B793-4925-B1BD-D2F17FEC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8E62-B9A4-44AB-B361-6A6C2E8D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5090-7072-4B8C-B61A-E34A89A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CD85-0E83-4886-8F8A-381BABB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7752-7D5B-43C1-AE3A-E8C84792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A19F-2D04-4530-84BB-4C7C567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79D-13EC-4C09-8C11-C140C8E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8CA0-9444-45A3-A5EF-94C26CF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8169-A6F2-4D24-96AC-A0A21DB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CA15-2490-4709-8BA3-1F30E7B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3C14-D6C7-4041-9BAE-85EFAED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D45A-3A42-4121-AFA8-6E18C55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1B11-7719-49C7-971B-08244CE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0F2B-A339-4E38-A32F-53E758E4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1A26-F360-4BB1-8D0A-8F5A4AF1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2D89-1AD5-47ED-B8A9-A00B4FC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7C76-B53C-4BD0-986F-FB9E29E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20F-140F-40B4-8F87-28A58108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622F-F034-437A-927B-3C07B42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5D71-6593-426A-B2A5-753D25E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C866-F2DB-4094-8B36-F2C5433F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2936-D8A0-4AF5-913D-41B3F23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61B7-E9D1-4D8D-A39A-3AE6780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0D1F-DB69-4989-9B43-6933B7A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6566-C61D-4493-B20D-6AA527D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F0A4-9579-4891-94AB-DBB5C032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B131-1FE0-4626-ACF0-9CE62EB0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2F29-279E-4715-AD47-69B9298C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AAC-50F5-4256-A989-B619EB5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EF4CD-ABE7-4A51-A505-FA7EBDB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79AB-2E4F-41C2-B911-4435C78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719E-8577-4E12-8998-2D93221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9BAA9-A38C-4B3A-AE6A-C5E86AE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01F3-E234-48F3-A0C7-C697771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AC39-A5FF-4699-8A47-B02FC88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6C10C-DD48-44CE-A4C4-E274086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E897-318D-4262-996C-52EE958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AEED-36FD-4D9C-8EFE-88F91A82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E7B6E-3F51-4D24-9505-B2526137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D3E-93D6-475E-A64C-3F10680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DC50-71BD-46B9-A4FC-D39C2D0E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CAE4E-34C8-4959-A15A-EB901382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F9065-CA44-46EB-928C-C263980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EE07-AE92-4F55-B232-D540A5B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23E4-197C-4116-B1F5-B66C495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032C-166A-493C-8B1A-20584AF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12574-4031-4FF1-8824-1330688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C92E-7306-4BA2-9EA4-A01F76A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2C72-D92C-4E66-A245-1F35051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77F39-5168-408A-B671-FE016FD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43C-57C4-4B22-A909-8E1387A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A184-8C2A-466E-BC94-2321E7BE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CBF7-4C39-4FA5-BE75-B55D03A6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DA4FD-FCB5-4F8C-9CB5-362BF292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E75B-1279-4C0D-B1B7-B3B6626B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C1C7-8204-4A6F-A74F-E5C0CEE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D6E6-4E71-4F07-A4DF-85F3A487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00D2-991E-4BE6-A9E2-39696D47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E337-D07B-479B-9F5A-D040C8D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94B9-9FB8-489D-8FC8-C1F54778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6E82-4E9B-4E5E-82FC-FF667C4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265-7F4F-4F86-976B-278D73D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1B3A0-7D73-43C8-B15F-C26F9B3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8A78-A45D-4961-9A46-F91965F5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6877-E471-4D79-B2E6-4687E28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74DA-25EE-462B-B585-A123EB5A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13A5-7F12-4349-9F0B-1E0E0968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9DE-8653-4DF5-9627-EFE2501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013-1FE8-473D-B767-C94A1C0D0910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139-9F78-4B4D-B0E4-3C40EC8758D4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A6C9-12E2-4C18-BA17-E305EFDD608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5B3-ABBB-4435-A466-9282835B552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81B-1F5D-430E-9C38-4CBD5176D762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87D8-B5F5-48AE-A2C2-6D506998C780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DCC-08FE-408D-9862-53B2C835BF3B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要點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新北市立金山高中（以下簡稱本校）學生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事宜，以鼓勵學生優良表現、引導學生身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健全發展、提升教育品質及促進校園友善文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並依國民教育法第二十條之一第一項之規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特訂定本要點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一、受獎懲學生或其法定代理人或家長對於所受獎懲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認為有違法或不當致其權益受損害者，得依新北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市高級中等以下學校學生申訴評議委員會設置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評議要點之規定，應於獎懲措施之次日起二十日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內，以書面或言詞向學校申評會提出申訴。         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6919560" y="1882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附表五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4000" y="189000"/>
          <a:ext cx="8569080" cy="6226200"/>
        </p:xfrm>
        <a:graphic>
          <a:graphicData uri="http://schemas.openxmlformats.org/drawingml/2006/table">
            <a:tbl>
              <a:tblPr/>
              <a:tblGrid>
                <a:gridCol w="796680"/>
                <a:gridCol w="1398600"/>
                <a:gridCol w="1650960"/>
                <a:gridCol w="1024200"/>
                <a:gridCol w="1898640"/>
                <a:gridCol w="1800000"/>
              </a:tblGrid>
              <a:tr h="374400">
                <a:tc gridSpan="6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北市立金山高中學生重大獎懲委員會人員名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職 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編組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備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任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林美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鄭敬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執行秘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周桂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金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輔組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羅志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游靜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組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龔振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家長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謝賜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會會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魯學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吳筱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報完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請指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5920"/>
            <a:ext cx="8496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學生之獎勵與懲罰，應依下列原則為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一）平等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非有正當理由，不得為差別待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二）比例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應有助於目的之達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有多種同樣能達成目的之措施時，應選擇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權益損害較少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所造成之損害不得與欲達成目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利益顯失均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三）個別差異原則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學生之獎懲應審酌下列因素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動機與目的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手段與行為時所受之外在情境影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785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違反義務之程度與所生之危險或損害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人格特質、身心健康狀況、生活狀況與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家庭狀況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品行、智識程度與平時表現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後之態度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其他足以影響行為發生之因素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學校為鼓勵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。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四、對於學生情節輕微之不當行為，學校應予糾正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採取適當之輔導與管教措施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採取前項措施無效果時，得視學生違規情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依輔導管教目的所為之其他適當懲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包含以下方式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家長或監護人帶回管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輔導安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交付司法機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為前項各款之懲罰措施，應列舉事實敘明理由，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通知法定代理人或家長，小過以上懲罰措施之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知，並應以書面為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五、本校設立學生獎懲委員會（以下簡稱獎懲會），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任務如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訂定或修正學生獎懲實施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審議學生大功、大過及特殊獎懲案件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研擬或審議其他有關學生獎懲事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置委員七人至十五人，單一性別不得少於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 之一。但學校任一性別教師人數少於委員總數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之一者，不在此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均為無給職，由校長就下列人員聘任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行政代表不得超過全體委員二分之一，其中學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務主任為當然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教師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家長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學生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委員，任期為一年，並不得兼任學生申訴評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會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代表應優先自學生自治組織成員中遴選，並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先取得法定代理人或家長之同意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因故出缺時，校長依本點第二項規定補聘派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，其任期至原任期屆滿之日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應訂定學生獎懲規定，經學校校務會議通過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實施，並報新北市政府教育局備查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9280" y="0"/>
            <a:ext cx="87854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六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會議由學務（校務）主任召集，生輔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教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長為執行秘書。應有全體委員三分之二以上出席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出席委員二分之一以上同意，始得決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開會時，委員應親自出席，不得委託他人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理出席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處理獎懲案件，關於委員之迴避，依行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政程序法第三十二條及第三十三條規定辦理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七、獎懲會審議學生獎懲案件，應秉公正、公平及不公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開原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重大懲處案件應於開會前三日通知議處單位、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及其法定代理人或家長到場陳述意見並得以書面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會議之決議，以無記名投票表決方式為之；其決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經過及個別委員意見應予保密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八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嘉獎、警告、小功、小過之獎懲措施應簽會導師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後，由學務處核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大功、大過及依輔導管教目的所為之其他適當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措施，應由學務處簽會導師及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提供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見，經獎懲會討論議決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獎懲決議應作成決定書，記載事實、理由、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依據及結果，報請校長核定，後執行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但大過以上者，應以書面通知受懲罰學生及其法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理人或家長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第三項之獎懲決議應經校長核定後執行，校長對獎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決議有不同意見時，應敘明理由退回獎懲會覆議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如經獎懲會全體委員三分之二以上出席，出席委員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二分之一以上決議維持原獎懲措施時，校長得敘明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理由後逕為核定並交付執行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九、本要點之獎懲事項，學校教職員工均有提供相關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料之責任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、為鼓勵學生改過遷善，學校應訂定改過及銷過相關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已改過及銷過者，應於學生之懲罰紀錄加註銷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字樣，其紀錄不登載於學生成績通知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29:49Z</dcterms:modified>
  <cp:revision>28</cp:revision>
  <dc:subject/>
  <dc:title>新北市立金山高中101年校務會議學務處提案1─教師輔導與管教學生辦法</dc:title>
</cp:coreProperties>
</file>